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4B7B-3830-40D5-B458-EA43D96FB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AE84-4DBC-407C-8C88-6EB8DC3A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122E-C15E-40A2-A6AF-C72AE46A7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E972-E2FD-4774-81D1-8B7CE3BAD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EE388-5B29-412D-8419-75B5834EE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6784-7844-4BDF-A2C8-62DEFDE1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E035-5FBB-45B6-867E-707E00FC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BB8D-002B-4E64-B006-2089E4D0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48DD-EEF5-405D-8F2F-993ED866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7FBB-37AB-4C7A-985E-631AA947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F00B8-833D-43F4-B505-7965B05C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2E8D-4443-47C6-A79A-076EB0111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97F2-F795-417D-AEAC-A45DB0AA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CCD1-1068-4098-BADD-A39FBD01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178F-6CEC-471B-9D34-DE7CFB2B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A9F2-C05F-429B-A649-DB8BC1B4B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C3BE-2888-4259-A6F3-D8A3322B1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44A3-8739-47A7-81DF-B935CD76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922E-EF21-4342-A4CF-B22EE511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AF1F-5EF4-4CB3-9585-032D1814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196C-5182-48F7-9317-1F6A6565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AA2F-A69F-4DBA-AEF2-C7C6B7BF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190A-57EB-46D8-B618-90BD02C2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55EE-4749-4D5B-8328-23A43CAD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AED4-676A-41B0-A502-A728EDA7B731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250920" y="1341360"/>
            <a:ext cx="865080" cy="2872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1116000" y="1341360"/>
            <a:ext cx="863640" cy="287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1979640" y="1341360"/>
            <a:ext cx="863640" cy="287280"/>
          </a:xfrm>
          <a:prstGeom prst="rect">
            <a:avLst/>
          </a:pr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2843280" y="1341360"/>
            <a:ext cx="865080" cy="287280"/>
          </a:xfrm>
          <a:prstGeom prst="rect">
            <a:avLst/>
          </a:prstGeom>
          <a:solidFill>
            <a:srgbClr val="cc009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4572000" y="1341360"/>
            <a:ext cx="863640" cy="287280"/>
          </a:xfrm>
          <a:prstGeom prst="rect">
            <a:avLst/>
          </a:prstGeom>
          <a:solidFill>
            <a:srgbClr val="9900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3708360" y="1341360"/>
            <a:ext cx="863640" cy="287280"/>
          </a:xfrm>
          <a:prstGeom prst="rect">
            <a:avLst/>
          </a:prstGeom>
          <a:solidFill>
            <a:srgbClr val="0000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5435640" y="1341360"/>
            <a:ext cx="865080" cy="287280"/>
          </a:xfrm>
          <a:prstGeom prst="rect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" name="Rectangle 14"/>
          <p:cNvSpPr/>
          <p:nvPr/>
        </p:nvSpPr>
        <p:spPr>
          <a:xfrm>
            <a:off x="6300720" y="1341360"/>
            <a:ext cx="863640" cy="287280"/>
          </a:xfrm>
          <a:prstGeom prst="rect">
            <a:avLst/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7164360" y="1341360"/>
            <a:ext cx="863640" cy="287280"/>
          </a:xfrm>
          <a:prstGeom prst="rect">
            <a:avLst/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8028000" y="1349280"/>
            <a:ext cx="865080" cy="2872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" name="Rectangle 17"/>
          <p:cNvSpPr/>
          <p:nvPr/>
        </p:nvSpPr>
        <p:spPr>
          <a:xfrm>
            <a:off x="250920" y="189000"/>
            <a:ext cx="8642160" cy="6480000"/>
          </a:xfrm>
          <a:prstGeom prst="rect">
            <a:avLst/>
          </a:prstGeom>
          <a:noFill/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6"/>
          <p:cNvSpPr/>
          <p:nvPr/>
        </p:nvSpPr>
        <p:spPr>
          <a:xfrm>
            <a:off x="250920" y="1341360"/>
            <a:ext cx="865080" cy="2872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116000" y="1341360"/>
            <a:ext cx="863640" cy="287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1979640" y="1341360"/>
            <a:ext cx="863640" cy="287280"/>
          </a:xfrm>
          <a:prstGeom prst="rect">
            <a:avLst/>
          </a:prstGeom>
          <a:solidFill>
            <a:srgbClr val="c050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2843280" y="1341360"/>
            <a:ext cx="865080" cy="287280"/>
          </a:xfrm>
          <a:prstGeom prst="rect">
            <a:avLst/>
          </a:prstGeom>
          <a:solidFill>
            <a:srgbClr val="cc009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4572000" y="1341360"/>
            <a:ext cx="863640" cy="287280"/>
          </a:xfrm>
          <a:prstGeom prst="rect">
            <a:avLst/>
          </a:prstGeom>
          <a:solidFill>
            <a:srgbClr val="9900c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3708360" y="1341360"/>
            <a:ext cx="863640" cy="287280"/>
          </a:xfrm>
          <a:prstGeom prst="rect">
            <a:avLst/>
          </a:prstGeom>
          <a:solidFill>
            <a:srgbClr val="0000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5435640" y="1341360"/>
            <a:ext cx="865080" cy="287280"/>
          </a:xfrm>
          <a:prstGeom prst="rect">
            <a:avLst/>
          </a:prstGeom>
          <a:solidFill>
            <a:srgbClr val="00b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6300720" y="1341360"/>
            <a:ext cx="863640" cy="287280"/>
          </a:xfrm>
          <a:prstGeom prst="rect">
            <a:avLst/>
          </a:prstGeom>
          <a:solidFill>
            <a:srgbClr val="008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7164360" y="1341360"/>
            <a:ext cx="863640" cy="287280"/>
          </a:xfrm>
          <a:prstGeom prst="rect">
            <a:avLst/>
          </a:prstGeom>
          <a:solidFill>
            <a:srgbClr val="99cc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1" name="Rectangle 16"/>
          <p:cNvSpPr/>
          <p:nvPr/>
        </p:nvSpPr>
        <p:spPr>
          <a:xfrm>
            <a:off x="8028000" y="1349280"/>
            <a:ext cx="865080" cy="2872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250920" y="189000"/>
            <a:ext cx="8642160" cy="6480000"/>
          </a:xfrm>
          <a:prstGeom prst="rect">
            <a:avLst/>
          </a:prstGeom>
          <a:noFill/>
          <a:ln w="324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3" name="Title 1"/>
          <p:cNvSpPr/>
          <p:nvPr/>
        </p:nvSpPr>
        <p:spPr>
          <a:xfrm>
            <a:off x="684360" y="260280"/>
            <a:ext cx="7772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rebuchet MS"/>
                <a:ea typeface="Calibri"/>
              </a:rPr>
              <a:t>PRIMARY SCIENCE</a:t>
            </a:r>
            <a:endParaRPr b="0" lang="en-US" sz="30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rebuchet MS"/>
                <a:ea typeface="Calibri"/>
              </a:rPr>
              <a:t>Education Consultancy</a:t>
            </a:r>
            <a:endParaRPr b="0" lang="en-US" sz="23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786B-B722-4261-B2E0-263A8FAD889E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naomi@primary-science.co.uk" TargetMode="External"/><Relationship Id="rId2" Type="http://schemas.openxmlformats.org/officeDocument/2006/relationships/hyperlink" Target="http://www.primary-science.co.uk/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92360" y="2130120"/>
            <a:ext cx="5759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new science curriculum for Years 1 and 2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Arial"/>
              </a:rPr>
              <a:t>Led by Naomi Hisc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naomi@primary-science.co.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primary-science.co.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Comparative testing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 the materials to see how well they absorb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Looking more closely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aw a 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aw a f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aw a le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4067280" y="1920960"/>
            <a:ext cx="3330360" cy="382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Looking more closely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ok at your leaf more closely and draw it in as much detail a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are your leaf to a colleag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Compare and contras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324000" y="1773360"/>
            <a:ext cx="151128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alatino Linotype"/>
              </a:rPr>
              <a:t>Only this leaf ha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7380360" y="1773360"/>
            <a:ext cx="143964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alatino Linotype"/>
              </a:rPr>
              <a:t>Only this leaf ha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324000" y="4044960"/>
            <a:ext cx="84960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alatino Linotype"/>
              </a:rPr>
              <a:t>They both have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34" name="TextBox 10"/>
          <p:cNvSpPr/>
          <p:nvPr/>
        </p:nvSpPr>
        <p:spPr>
          <a:xfrm>
            <a:off x="301680" y="5397480"/>
            <a:ext cx="84963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Palatino Linotype"/>
              </a:rPr>
              <a:t>They both have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cxnSp>
        <p:nvCxnSpPr>
          <p:cNvPr id="135" name="Straight Arrow Connector 12"/>
          <p:cNvCxnSpPr/>
          <p:nvPr/>
        </p:nvCxnSpPr>
        <p:spPr>
          <a:xfrm flipH="1" flipV="1">
            <a:off x="1834920" y="2743920"/>
            <a:ext cx="5054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Straight Arrow Connector 14"/>
          <p:cNvCxnSpPr/>
          <p:nvPr/>
        </p:nvCxnSpPr>
        <p:spPr>
          <a:xfrm>
            <a:off x="6740280" y="2739600"/>
            <a:ext cx="640440" cy="5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6"/>
          <p:cNvCxnSpPr/>
          <p:nvPr/>
        </p:nvCxnSpPr>
        <p:spPr>
          <a:xfrm>
            <a:off x="3292200" y="3715920"/>
            <a:ext cx="1080" cy="329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Straight Arrow Connector 18"/>
          <p:cNvCxnSpPr/>
          <p:nvPr/>
        </p:nvCxnSpPr>
        <p:spPr>
          <a:xfrm>
            <a:off x="5497200" y="3706560"/>
            <a:ext cx="1080" cy="338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139" name="Picture 2" descr="http://www.meridian.k12.il.us/middle%20school/student_work/katiepetrowsky/sycamore_leaf.jpg"/>
          <p:cNvPicPr/>
          <p:nvPr/>
        </p:nvPicPr>
        <p:blipFill>
          <a:blip r:embed="rId1"/>
          <a:stretch/>
        </p:blipFill>
        <p:spPr>
          <a:xfrm>
            <a:off x="2627280" y="1797120"/>
            <a:ext cx="1459080" cy="2017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http://upload.wikimedia.org/wikipedia/en/f/f3/Oak_leaf.PNG"/>
          <p:cNvPicPr/>
          <p:nvPr/>
        </p:nvPicPr>
        <p:blipFill>
          <a:blip r:embed="rId2"/>
          <a:stretch/>
        </p:blipFill>
        <p:spPr>
          <a:xfrm>
            <a:off x="4284720" y="1762200"/>
            <a:ext cx="221148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Classificatio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dd one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ess how I have s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enn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Pattern seeking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all leaves have ….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plants with ……… have …….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plants with smaller leaves have more leav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Observations over tim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asonal change (Year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ants (Year 1 and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ving things and their habitats (Year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changes throughout the y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can you obser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will you record the cha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Research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k an animal (animal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d out what it eats (animal 2 or pla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d out what that animal eats (animal 3 or pla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"/>
          <p:cNvSpPr/>
          <p:nvPr/>
        </p:nvSpPr>
        <p:spPr>
          <a:xfrm>
            <a:off x="327240" y="4724280"/>
            <a:ext cx="727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cxnSp>
        <p:nvCxnSpPr>
          <p:cNvPr id="150" name="Straight Arrow Connector 5"/>
          <p:cNvCxnSpPr/>
          <p:nvPr/>
        </p:nvCxnSpPr>
        <p:spPr>
          <a:xfrm>
            <a:off x="1187280" y="4868640"/>
            <a:ext cx="1224720" cy="10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51" name="TextBox 6"/>
          <p:cNvSpPr/>
          <p:nvPr/>
        </p:nvSpPr>
        <p:spPr>
          <a:xfrm>
            <a:off x="7713720" y="4724280"/>
            <a:ext cx="1095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imal 1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2" name="TextBox 7"/>
          <p:cNvSpPr/>
          <p:nvPr/>
        </p:nvSpPr>
        <p:spPr>
          <a:xfrm>
            <a:off x="5130000" y="4724280"/>
            <a:ext cx="1095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imal 2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2546640" y="4724280"/>
            <a:ext cx="1095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imal 3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cxnSp>
        <p:nvCxnSpPr>
          <p:cNvPr id="154" name="Straight Arrow Connector 9"/>
          <p:cNvCxnSpPr/>
          <p:nvPr/>
        </p:nvCxnSpPr>
        <p:spPr>
          <a:xfrm>
            <a:off x="6389640" y="4909680"/>
            <a:ext cx="1224720" cy="10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5" name="Straight Arrow Connector 10"/>
          <p:cNvCxnSpPr/>
          <p:nvPr/>
        </p:nvCxnSpPr>
        <p:spPr>
          <a:xfrm>
            <a:off x="3779640" y="4876560"/>
            <a:ext cx="1224360" cy="10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Gap task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ore your local area and identify good spots for your ongoing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gin to get outside on a regular 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planning consider the type of enquiry that children will be u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o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pettes, syringes, teaspo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ttles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be familiar with the changes in the new curriculum and how these affect current curriculum 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explore in more detail working scientifically and on going pro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identify areas for support in the next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The new curriculum - timelin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lised in September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be implemented in year 3 and 4 now, must be in place for September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ear 1 and 5 in place for September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ear 2 and 6 in place for September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rebuchet MS"/>
              </a:rPr>
              <a:t>The new curriculum - rebranding</a:t>
            </a:r>
            <a:endParaRPr b="0" lang="en-US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9992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ientific enquiry is now called working scientifically- it is still at the core of the curricu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2 – life processes and living th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imals, including hum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a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iving things and their habita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2 – materials and their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veryday mater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ses of everyday mater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ates of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perties and changes of mater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4 – physical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ces and magn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arth and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The new curriculum - chang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content has g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has mo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is 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 you want to focus on during the next sess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Progression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gression in knowledge is more clearly mapped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k a strand and explore how the year 1 and 2 content fits before the other ph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s progression clear in all stran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New opportuniti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eater focus on outdoor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 opportunity to rethink how we approach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 are not 6 units per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going units – seasonal change year 1, plants year 1 and 2, (living things and their habitat year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Working scientifically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cus on different types of enqui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oration – discussing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ative/fair testing - absorb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ssification – sorting le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ttern seeking – leaf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servation over time – seasonal change,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earching – what animals 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Exploratio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ok at the different clo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what ways are they the same and differ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nk them in order of how well you think they will absorb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08:55:18Z</dcterms:created>
  <dc:creator>Naomi</dc:creator>
  <dc:description/>
  <dc:language>en-US</dc:language>
  <cp:lastModifiedBy>Naomi Hiscock</cp:lastModifiedBy>
  <dcterms:modified xsi:type="dcterms:W3CDTF">2013-11-27T08:51:51Z</dcterms:modified>
  <cp:revision>74</cp:revision>
  <dc:subject/>
  <dc:title>Science coordinators’ meeting 22nd September 2011</dc:title>
</cp:coreProperties>
</file>